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 Narrow"/>
              </a:rPr>
              <a:t>НОВОСИБИРСК,</a:t>
            </a: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Arial Narrow"/>
              </a:rPr>
              <a:t>МОИ ВПЕЧАТЛЕНИЯ.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БОУ "Орловская СОШ"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ч-ся 4 класса </a:t>
            </a:r>
            <a:r>
              <a:rPr b="1" lang="ru-RU" sz="3200" spc="-1" strike="noStrike">
                <a:solidFill>
                  <a:srgbClr val="000000"/>
                </a:solidFill>
                <a:latin typeface="Microsoft Sans Serif"/>
              </a:rPr>
              <a:t>Гуль Наталь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Моё путешествие в Новосибирск началось с вокзала в городе Томске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огда я ехала на поезде, было интересно рассматривать станции, людей, деревни, дома, природу, одним словом, всё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В поезде были мягкие кровати, к  нам подходи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проводник , который предлагал чай и всякие напитки, мороженое…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И вот мы в Новосибирске!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4280400"/>
            <a:ext cx="6984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125000"/>
            <a:ext cx="6696000" cy="468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Новосибирске я каталась в карете. Она была жёлтого ,белого и немного красного цвета. Лошадь была чёрная , а её ободок  зелёный с красными ягодками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Ещё каталась на красивом пони Натика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 был  белого цвета , а грива чёрного 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ободок  красно-зелёного цвета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Парк сказок – это праздник!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 парке сказок я фотографировалась у статуй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из разных сказок  мира. Они сделаны из белого камня. Мне там очень понравилось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Парк динозавров – это сказка!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парке динозавров было страшно и весело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 чтобы добраться до зоопарка,этот парк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до было пройти 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жно было пройти пешком или плыть на лодочке.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-4461120"/>
            <a:ext cx="21420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 Новосибирске очень много клумб. Возле цветов так вкусно пахнет . На клумбах  растут розы, лилии, мои любимые ромашки и т.д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Я так люблю цветы! Мне нравится  смотреть на них , они такие красивые!!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4280400"/>
            <a:ext cx="1411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Мне кажется, что зоопарк  Новосибирска невозможно обойти за 1 день - он такой большой . Там так много разных животных 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А внизу царство Нептуна - это мир морских глубин. Там рыбы, морские звёзды, морские коньки и устрицы ,раки, крабы…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И здесь мне всё понравилось!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8360" y="-3761640"/>
            <a:ext cx="69840" cy="1325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63640" y="1197000"/>
            <a:ext cx="64008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Monotype Corsiva"/>
              </a:rPr>
              <a:t>МНЕ ВСЁ ПОНРАВИЛОСЬ!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Monotype Corsiva"/>
              </a:rPr>
              <a:t>Эта поездка для меня, как путешествие в сказку.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12:47:32Z</dcterms:created>
  <dc:creator>Трям</dc:creator>
  <dc:description/>
  <dc:language>en-US</dc:language>
  <cp:lastModifiedBy>Амбер</cp:lastModifiedBy>
  <dcterms:modified xsi:type="dcterms:W3CDTF">2015-10-14T13:10:11Z</dcterms:modified>
  <cp:revision>5</cp:revision>
  <dc:subject/>
  <dc:title>НОВОСИБИРСК МОИ ВПЕЧЕТЛЕНИЯ </dc:title>
</cp:coreProperties>
</file>