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A856-8532-4EEB-B401-08A50411F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5181-F869-47F7-9192-20FFF8CA1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2053-46AE-4705-A34F-7A6FFAFA1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E168-ABB1-43B2-A32D-3F1802966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AFC70-FB6E-454A-B098-787CB2AB8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EF840-B565-477A-836D-B4650A4F6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815AC-DCF7-48B1-B896-744F148AA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8DB11-C955-4867-8C6F-4E3F0184F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B2ED6-3898-496C-A55B-90FB5FCC3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8F1A4-4443-487E-90B4-BFF9F73ED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5BED0-B0DA-46E2-8EBD-35AFDEE8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61B4-6D23-4DE0-B931-0F2832CFE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F98E2-4FDC-4692-A464-5CBBAD47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03964-BF95-40EF-BE90-3F289761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C4589-DB52-434F-AAD2-F21A94304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ED6BA-0B6D-451C-A5D7-21CD441C4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32266-0BF5-4A17-9F6B-746424FF0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EF3CD-4BE4-4FF9-B2AA-DDFFAD048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BBEFF-3FDD-419A-BCC9-5ED260AA2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339DA-1693-4B2C-A4AA-A8144521F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95B11-4D43-46B2-9591-BE739081C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61408-1AEA-4299-83C8-DEB5771A3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0503-9CC6-42E7-82E7-1808385EF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74B5F-762D-435A-B74F-4181335D1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B7DF8-EED9-460C-9A12-15C72F48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A8193-8DCD-42AA-A735-6A0C8B00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C4817-4973-46E5-A0C6-74AEE6B6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ED939-5B32-4461-89D7-43E4CAFE7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B8922-6076-4B1B-A2DC-49CCB87F0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2F2E2-43E8-4A02-B9D1-094EBF70C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ED189-3E61-4046-A82D-2709E8CB3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06C1C-C756-472C-B53C-C02600908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07D10-BA31-4661-ADC1-7047AA7FF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5DC2-998F-4344-AC5B-A9073F611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37B9C-FB39-4AD4-9A6A-1BACE53AA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623FC-B711-4B21-A05D-35F0FEDF2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8358F-4EDE-4DD9-A7E1-0053667A4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B6B99-B67C-4C85-905C-6B2B3BE6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5649D-66BA-4F5A-81AA-A3D91976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E890F-A247-49E9-837B-228F6ECC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FEB5D-BEEB-4D40-8490-96C1D33CF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BFB4A-A7C1-4DCD-A014-977859E4D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32C69-6FBC-4BDA-A22C-8FB17C30D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913F7-CFEB-435C-9B52-8AD9D0298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60D2-978C-44BD-A7AD-D1B7292BB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9DEFC-DEE8-49B5-8440-34DAC4BB1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A275B-497A-4E9F-8DD1-D5E5E3B1C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E98A8-A6FE-4C69-B739-B19C4286B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70D46-5AE6-437E-A9C8-1E798E3BC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B3352-77A6-44B6-BA0B-3EE295495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59E1C-07AA-4CD3-9FAE-EE91B3A9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435B4-F306-4111-85E3-1B9C9CF0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0E8B3-610F-4E82-9F63-4B7176A5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9E123-7E7C-4A4C-8D9B-CF59C63FC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B7B8C-B79E-4BA7-86B4-AB3BB0088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991B-2EF6-4E99-9DC1-D11F1BC8F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C35D3-36EA-4D8C-8C00-49E2C8A95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EF0F1-6F98-4A28-9525-6FFA99F1C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0CA6C-A888-4E8D-988E-DA87421DD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7E28C-0D1B-430F-8682-F92F148A0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5136F-8015-4F09-83A0-4FDE285E2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D86502-9AFE-4714-9C90-CB7E8E21B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BE01F-BD90-4F1A-867D-3FB4F942C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EE210-403F-4387-B887-5D55A82D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F93674-8E1E-4C39-8374-1A874283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BA20C-BB4A-464B-B206-DF4ABA90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B090-2155-40C0-98A0-D43728D1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0A26E-FAD0-4160-A690-E6E24DE57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44DAB-00B6-405F-A35E-C6ACD8FD9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2F08E-37A5-49DE-B890-CCD280E6C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4C5F3-14AE-4928-A76F-7735B107A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834A0-D8FF-4440-A2D5-7E91CC2E4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E97071-AF95-40D6-B974-0C5FA22D4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243EC-A365-4922-B406-E0F82F556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F10AC-63B1-4EF5-A240-AA0F422A3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64AD0-C145-4F8B-8978-A940FFB7B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E9450A-7C60-4600-B374-16978FCC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91A3-9239-4E94-BF65-435F55AC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D258A-20C1-4FD6-B0FC-1E7EF360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10D31-A309-4F8D-BED0-55DA1F04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24A10D-C8B3-4262-94B0-3C882DA38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F5B77-FEA3-4037-9488-95C842B60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A79D23-BAE6-4937-A887-DB614D670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6CDD-9E89-4073-9F9C-0AA634D0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>
                <a:gd name="textAreaLeft" fmla="*/ 0 w 5544720"/>
                <a:gd name="textAreaRight" fmla="*/ 5545080 w 55447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>
                <a:gd name="textAreaLeft" fmla="*/ 0 w 5468040"/>
                <a:gd name="textAreaRight" fmla="*/ 5468400 w 546804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>
                <a:gd name="textAreaLeft" fmla="*/ 0 w 3308040"/>
                <a:gd name="textAreaRight" fmla="*/ 3308400 w 3308040"/>
                <a:gd name="textAreaTop" fmla="*/ 0 h 651960"/>
                <a:gd name="textAreaBottom" fmla="*/ 652320 h 65196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A581D-02A2-444A-BD98-C815319457C9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0320"/>
                <a:gd name="textAreaBottom" fmla="*/ 850680 h 85032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4360"/>
                <a:gd name="textAreaBottom" fmla="*/ 774720 h 7743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1600"/>
                <a:gd name="textAreaBottom" fmla="*/ 651600 h 65160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16AC-4878-4619-BB90-EB50AAE0A73D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>
              <a:gd name="textAreaLeft" fmla="*/ 0 w 2876400"/>
              <a:gd name="textAreaRight" fmla="*/ 2876760 w 287640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>
              <a:gd name="textAreaLeft" fmla="*/ 0 w 5545080"/>
              <a:gd name="textAreaRight" fmla="*/ 5545440 w 554508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>
              <a:gd name="textAreaLeft" fmla="*/ 0 w 5467320"/>
              <a:gd name="textAreaRight" fmla="*/ 5467680 w 546732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>
              <a:gd name="textAreaLeft" fmla="*/ 0 w 3306600"/>
              <a:gd name="textAreaRight" fmla="*/ 3306960 w 3306600"/>
              <a:gd name="textAreaTop" fmla="*/ 0 h 652680"/>
              <a:gd name="textAreaBottom" fmla="*/ 653040 h 652680"/>
            </a:gdLst>
            <a:ahLst/>
            <a:rect l="textAreaLeft" t="textAreaTop" r="textAreaRight" b="textAreaBottom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>
              <a:gd name="textAreaLeft" fmla="*/ 0 w 8723520"/>
              <a:gd name="textAreaRight" fmla="*/ 8723880 w 8723520"/>
              <a:gd name="textAreaTop" fmla="*/ 0 h 1328760"/>
              <a:gd name="textAreaBottom" fmla="*/ 1329120 h 1328760"/>
            </a:gdLst>
            <a:ahLst/>
            <a:rect l="textAreaLeft" t="textAreaTop" r="textAreaRight" b="textAreaBottom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DA6F9-424B-416F-97E7-9F7F6E309DFE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>
                <a:gd name="textAreaLeft" fmla="*/ 0 w 5544720"/>
                <a:gd name="textAreaRight" fmla="*/ 5545080 w 55447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>
                <a:gd name="textAreaLeft" fmla="*/ 0 w 5468040"/>
                <a:gd name="textAreaRight" fmla="*/ 5468400 w 546804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>
                <a:gd name="textAreaLeft" fmla="*/ 0 w 3308040"/>
                <a:gd name="textAreaRight" fmla="*/ 3308400 w 3308040"/>
                <a:gd name="textAreaTop" fmla="*/ 0 h 651960"/>
                <a:gd name="textAreaBottom" fmla="*/ 652320 h 65196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1E57B-3642-4F4E-9A50-CDC72C9900E1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5320"/>
                <a:gd name="textAreaBottom" fmla="*/ 715680 h 7153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1400"/>
                <a:gd name="textAreaBottom" fmla="*/ 851760 h 8514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5440"/>
                <a:gd name="textAreaBottom" fmla="*/ 775800 h 77544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14348-4773-4B5E-B894-C36EC667306E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0320"/>
                <a:gd name="textAreaBottom" fmla="*/ 850680 h 85032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4360"/>
                <a:gd name="textAreaBottom" fmla="*/ 774720 h 7743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1600"/>
                <a:gd name="textAreaBottom" fmla="*/ 651600 h 65160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781EA-ECEB-470F-AAC2-3E9903FFE0DC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5320"/>
                <a:gd name="textAreaBottom" fmla="*/ 715680 h 7153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1400"/>
                <a:gd name="textAreaBottom" fmla="*/ 851760 h 8514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5440"/>
                <a:gd name="textAreaBottom" fmla="*/ 775800 h 77544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BC28A-59C4-4D69-B4AD-35653A51C6BD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айкал- бесценный дар природы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.Твардовский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ndara"/>
              </a:rPr>
              <a:t> 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втор: Кораблёв Никита Сергеевич,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ащийся 9Г класса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БОУ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Ш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№87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Times New Roman"/>
              </a:rPr>
              <a:t>Происхождение Байкала до сих пор вызывает научные споры. Возраст озера учёные традиционно определяют в 25—35 млн лет. Этот факт также делает Байкал уникальным природным объектом, так как большинство озёр, особенно ледникового происхождения, живут в среднем 10—15 тыс. лет, а потом заполняются илистыми осадками и заболачиваются.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Times New Roman"/>
              </a:rPr>
              <a:t>Однако существует также версия о молодости Байкала, выдвинутая доктором геолого-минералогических наукА. В. Татариновым в 2009 году, которая получила косвенные подтверждения во время второго этапа экспедиции «Миров» на Байкале. В частности, деятельность грязевых вулканов на дне Байкала позволяет учёным предполагать, что современной береговой линии озера всего лишь 8 тыс. лет, а глубоководной части — 150 тыс. лет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ndara"/>
              </a:rPr>
              <a:t>Происхождение озера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871560" y="2674440"/>
            <a:ext cx="7408800" cy="345132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Озеро Байкал является уникальной экологической системой, правовые основы охраны которой регулируются принятым в 1999 году Федеральным законом «Об охране озера Байкал». В соответствии с данным федеральным законом на Байкальской природной территории установлен особый режим хозяйственной и иной деятельности, а утверждение перечня запрещённых видов деятельности делегировано Правительству Российской Федерации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ndara"/>
              </a:rPr>
              <a:t>Экология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  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Район южного побережья Байкала, где мы путешествовали, имеет отличную перспективу развития туризма. Этому способствует мягкий климат, близость транспортных путей, близость областного центра (Иркутск) и, главное, живописная природа, необыкновенной красоты ландшафты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871560" y="2674440"/>
            <a:ext cx="7408800" cy="345132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7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871560" y="2674440"/>
            <a:ext cx="7408800" cy="345132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Предпосылки путешеств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</a:rPr>
              <a:t>Отец много рассказывал мне об озере Байкал, вспоминая  своё детство, когда он жил в тех краях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</a:rPr>
              <a:t>Летом нынешнего года появилась возможность побывать на берегах этого уникального памятника природы, совершая семейное автомобильное путешествие от Северска до населённого пункта Листвянка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871560" y="2674440"/>
            <a:ext cx="7408800" cy="345132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1" name="Picture 2" descr=""/>
          <p:cNvPicPr/>
          <p:nvPr/>
        </p:nvPicPr>
        <p:blipFill>
          <a:blip r:embed="rId2"/>
          <a:stretch/>
        </p:blipFill>
        <p:spPr>
          <a:xfrm>
            <a:off x="0" y="-46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Запасы воды в Байкале гигантские — 23 615,39 км³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По данным исследований XIX века в Байкал впадало 336 рек и ручьёв, это число учитывало только постоянные притоки. Более современных данных по данному вопросу нет, однако иногда приводятся цифры в 544 или 1123 (которые приведены в результате подсчёта распадков, а не постоянных водотоков). Также считается, что вследствие антропогенного воздействия и изменения климата на Байкале с XIX века по современное время могло пропасть порядка 150 водотоков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Общие сведен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Candara"/>
              </a:rPr>
              <a:t>Озеро Байкал находится на юге Восточной Сибири. В форме рождающегося полумесяца Байкал вытянулся с юго-запада на северо-восток. Длина озера — 636 км, наибольшая ширина в центральной части — 81 км, минимальная ширина напротив дельты Селенги — 27 км. Расположен Байкал на высоте 455 м над уровнем моря, длина береговой линии — около 2000 км. Более половины длины береговой линии озера находится под охраной.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Candara"/>
              </a:rPr>
              <a:t>В Байкал впадает около 300 рек и ручьев, при этом половину объема воды, поступающей в озеро, приносит река Селенга. Из Байкала вытекает единственная река — Ангара. На озере — около 20 островов, самый крупный из которых — </a:t>
            </a:r>
            <a:r>
              <a:rPr b="0" lang="ru-RU" sz="1900" spc="-1" strike="noStrike" u="sng">
                <a:solidFill>
                  <a:srgbClr val="073e87"/>
                </a:solidFill>
                <a:uFillTx/>
                <a:latin typeface="Candara"/>
              </a:rPr>
              <a:t>Ольхон</a:t>
            </a:r>
            <a:r>
              <a:rPr b="0" lang="ru-RU" sz="1900" spc="-1" strike="noStrike">
                <a:solidFill>
                  <a:srgbClr val="073e87"/>
                </a:solidFill>
                <a:latin typeface="Candara"/>
              </a:rPr>
              <a:t>.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Candara"/>
              </a:rPr>
              <a:t>Что называется </a:t>
            </a:r>
            <a:r>
              <a:rPr b="0" lang="ru-RU" sz="1900" spc="-1" strike="noStrike" u="sng">
                <a:solidFill>
                  <a:srgbClr val="073e87"/>
                </a:solidFill>
                <a:uFillTx/>
                <a:latin typeface="Candara"/>
              </a:rPr>
              <a:t>Малым морем на Байкале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Географическое положение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871560" y="2674440"/>
            <a:ext cx="7408800" cy="34513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Размышления о Байкале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По дороге на Байкал я размышлял о том, какие исторические события происходили здесь, как шло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освоение территории Байкальской горной страны,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окружающей озеро, сколько дал этот край людям,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сколько пользы принёс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Эти вопросы я обсуждал с папой во время поездк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871560" y="2674440"/>
            <a:ext cx="7408800" cy="345132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2"/>
          <a:stretch/>
        </p:blipFill>
        <p:spPr>
          <a:xfrm>
            <a:off x="0" y="-34920"/>
            <a:ext cx="9144000" cy="689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Times New Roman"/>
              </a:rPr>
              <a:t>Если говорить об освоении Байкала, то можно сказать, что Можно выделить несколько основных этапов освоения озера Байкал.  Первый из них  связан с экспедициями землепроходцев и казацких отрядов. Он охватывает период с середины 17  по начало 18 века. Второй этап связан с  экспедициями Императорской академии наук. Этот период относится к   началу 18 по середину 19 века. Третий этап характеризуется целенаправленным комплексным изучением края, начиная с середины 19 века по 1917 год. И далее наступает новый период интенсивного изучения и промышленного использования озера Байкал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История Освоен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8T14:06:45Z</dcterms:created>
  <dc:creator>User</dc:creator>
  <dc:description/>
  <dc:language>en-US</dc:language>
  <cp:lastModifiedBy>WinXP</cp:lastModifiedBy>
  <dcterms:modified xsi:type="dcterms:W3CDTF">2015-11-06T05:42:28Z</dcterms:modified>
  <cp:revision>6</cp:revision>
  <dc:subject/>
  <dc:title>Природные богатства Великого Байкала</dc:title>
</cp:coreProperties>
</file>