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F80-4C64-4D06-9DC7-F8876CD8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0E4-AC93-4530-9A72-6C1460D4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38D-D063-4AA3-B79B-C199C690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391-58F9-44F6-B5F2-06D48FF6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DBD-B54C-4F6E-A8E2-E3164900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1E2-7601-4DE4-8BEA-DC5CB417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5AB-C299-431B-B95C-5643CA9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80A-10BA-4FD4-94FA-4728D9AD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650-D06D-439B-B3D4-63B18A5A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96D-1FF4-4F29-B72A-D859054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BE2-F7E0-4359-91AA-BC76370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496-EABF-4B86-B858-EE8892D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1FA8-C5AE-45C2-B7E7-B2365E176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suntime.com.ua/img/content/sight/188/wide_89585043901.jpg"/>
          <p:cNvPicPr/>
          <p:nvPr/>
        </p:nvPicPr>
        <p:blipFill>
          <a:blip r:embed="rId1"/>
          <a:srcRect l="0" t="0" r="35992" b="0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928880" y="4762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ром посетили театр им. Пушк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suntime.com.ua/img/content/city/2/wide_46317930930.jpg"/>
          <p:cNvPicPr/>
          <p:nvPr/>
        </p:nvPicPr>
        <p:blipFill>
          <a:blip r:embed="rId1"/>
          <a:srcRect l="16190" t="0" r="224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132000" y="6206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ледующий день  посетили знаменитую Алуш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suntime.com.ua/img/content/sight/2458/wide_25606688011.jpg"/>
          <p:cNvPicPr/>
          <p:nvPr/>
        </p:nvPicPr>
        <p:blipFill>
          <a:blip r:embed="rId1"/>
          <a:srcRect l="3865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 rot="21406800">
            <a:off x="217080" y="491472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разу ? В дельфинарий! Это, наверное, самое приятное моё воспоминание!  Дельфины,  прямо- как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suntime.com.ua/img/content/sight/372/wide_41850189950.jpg"/>
          <p:cNvPicPr/>
          <p:nvPr/>
        </p:nvPicPr>
        <p:blipFill>
          <a:blip r:embed="rId1"/>
          <a:srcRect l="17628" t="0" r="21071" b="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79280" y="260280"/>
            <a:ext cx="40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направились в аквапарк «Миндальная рощ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untime.com.ua/img/content/sight/460/wide_66062266141.jpg"/>
          <p:cNvPicPr/>
          <p:nvPr/>
        </p:nvPicPr>
        <p:blipFill>
          <a:blip r:embed="rId1"/>
          <a:srcRect l="12075" t="0" r="24404" b="0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00040" y="35712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о парку «Крым в миниатюр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yugopolis.ru/data/mediadb/2383/0000/0363/36352.jpg"/>
          <p:cNvPicPr/>
          <p:nvPr/>
        </p:nvPicPr>
        <p:blipFill>
          <a:blip r:embed="rId1"/>
          <a:stretch/>
        </p:blipFill>
        <p:spPr>
          <a:xfrm>
            <a:off x="-757080" y="0"/>
            <a:ext cx="102931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612720" y="4941720"/>
            <a:ext cx="94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же через 4 часа мы были в Краснодар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езжать нам очень не хотелос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 Пашковского аэропорта мы должны были вылететь в Москву, но теперь мой трепет перед столицей сошёл на нет – интуитивно мне казалось, что там всё инач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За 2 дня, проведённых в Крыму, я влюбилась в этот край и безусловно хочу вернуться сюда ещё раз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50920" y="134136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ntime.com.u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yandex.r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vk.co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.wikipedia.or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om.drom.ru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rymology.info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untime.com.ua/img/content/city/2/wide_14542633101.jpg"/>
          <p:cNvPicPr/>
          <p:nvPr/>
        </p:nvPicPr>
        <p:blipFill>
          <a:blip r:embed="rId1"/>
          <a:srcRect l="14979" t="0" r="236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11280" y="785520"/>
            <a:ext cx="7772400" cy="1857240"/>
          </a:xfrm>
          <a:prstGeom prst="rect">
            <a:avLst/>
          </a:prstGeom>
          <a:solidFill>
            <a:srgbClr val="e46c0a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МОЁ ПУТЕШЕСТВИЕ В КРЫ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ross-tur.ru/wp-content/uploads/2014/08/samolet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500720" y="3933720"/>
            <a:ext cx="43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NSimSun"/>
              </a:rPr>
              <a:t>Этим летом  вместе с родителями я посетила Крым.  Это  волшебный край! Здесь прекрасная природа, древние дворцы и замки, от вида которых захватывает дух,  добрые и улыбчивые люд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amp.pp.ua/images/image_pereprava/pereprava_03.jpg"/>
          <p:cNvPicPr/>
          <p:nvPr/>
        </p:nvPicPr>
        <p:blipFill>
          <a:blip r:embed="rId1"/>
          <a:stretch/>
        </p:blipFill>
        <p:spPr>
          <a:xfrm>
            <a:off x="-3571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-285840" y="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ая переп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 flipV="1" rot="10800000">
            <a:off x="4500360" y="407016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к только наш самолет приземлился, мы с родителями   отправились к переправе. Через некоторое время,  паром доставил нас на  берег Керченского прол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http://suntime.com.ua/img/content/sight/102/wide_3237431491.jpg"/>
          <p:cNvPicPr/>
          <p:nvPr/>
        </p:nvPicPr>
        <p:blipFill>
          <a:blip r:embed="rId1"/>
          <a:srcRect l="31413" t="0" r="72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266560" y="260280"/>
            <a:ext cx="35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вековый замок гор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oradumo.com.ua/wp-content/uploads/2015/07/9ce8746b611f2fd2c45f3e55ed17bc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79280" y="54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ость «Ени-Кале»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untime.com.ua/img/content/sight/268/wide_88105201300.jpg"/>
          <p:cNvPicPr/>
          <p:nvPr/>
        </p:nvPicPr>
        <p:blipFill>
          <a:blip r:embed="rId1"/>
          <a:srcRect l="14359" t="0" r="168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250920" y="4046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ковь Иоанна Предт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hwww.tour.crimea.com/sites/default/files/styles/flexslider_full/public/field/resorts/vid_na_gorod.jpg?itok=zsyOCoqp"/>
          <p:cNvPicPr/>
          <p:nvPr/>
        </p:nvPicPr>
        <p:blipFill>
          <a:blip r:embed="rId1"/>
          <a:srcRect l="16667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24000" y="400536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порт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suntime.com.ua/img/content/sight/2537/wide_41561792652.jpg"/>
          <p:cNvPicPr/>
          <p:nvPr/>
        </p:nvPicPr>
        <p:blipFill>
          <a:blip r:embed="rId1"/>
          <a:srcRect l="0" t="0" r="386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90960" y="522936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 пля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17:54:47Z</dcterms:created>
  <dc:creator>user</dc:creator>
  <dc:description/>
  <dc:language>en-US</dc:language>
  <cp:lastModifiedBy>Home</cp:lastModifiedBy>
  <dcterms:modified xsi:type="dcterms:W3CDTF">2015-11-04T18:06:53Z</dcterms:modified>
  <cp:revision>39</cp:revision>
  <dc:subject/>
  <dc:title>Слайд 1</dc:title>
</cp:coreProperties>
</file>