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73200"/>
            <a:ext cx="456552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B974C-C6C5-42B9-9058-5F3CF93518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C342C-B4B8-4022-A370-BD107D38B8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495E1-FDFF-433C-82C5-5C7119602F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8DBEA-E881-41A9-AEF6-C1056C8FB5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D4B9B-B790-4845-95D2-B3AA9993BF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84100-7240-4818-8A4D-3B42C47609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0B017-312A-478E-AB49-385FC36A28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9E0D5-A119-4C5B-AE6B-DE057FAB4C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A8010-061E-48AF-A553-08196D9B9C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DEF6C-D2B4-4CCF-A365-A66D84EAC0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1EDEB-15DD-4716-A479-A957026F74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32B38-450B-4F3B-B8BD-09DEE12896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89892-F807-4256-90FF-6729FD2BC2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CF17B-9A26-4A61-9E45-BA9D9F12C8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B59CE-549A-4BB1-A1ED-BD20AACD3D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BBA72-E7EA-452F-AF7F-A603280DD2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68082-DA0D-4A84-802E-0B993ECAD8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347F8-11B5-4307-885C-B3F92F601C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53F2A-498E-401D-B0C1-5493F72B78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FD483-E475-4BF3-9E04-61B8884B66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3ABFF-23C3-4147-9CDD-F140825597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591C5-09D7-4B52-9B6F-F739A4CB1E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FFC06-6458-4D20-B096-52A55D304A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DB614-AF31-4366-AE15-F8A1E1D175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0A999-567E-4418-9779-E00C847722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0D85F-00FD-4C60-87FC-B5F996334E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6C85A-C75A-4CA8-B0B8-F94453785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0AAEE-A295-4ADA-93E4-BAADA0DABD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558F8-DDD9-4A40-BF13-9AEAAE4136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155D4-6D84-48CD-B078-113F815865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106-4CE3-4D56-B1AA-ECBDD242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B25-EEA5-4B6A-B68B-E62A6F5C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907E-37D1-43DD-AB43-18FC5AA1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C06D-885A-4A13-9DB3-F12B6F87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1BEA-B707-4E7E-A206-194C700B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E65-A370-4029-B30E-EB3FCDA3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4A8-C189-4180-93D3-9B6023C7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2E5-6464-499D-A573-271E419D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4A6-A839-40B3-A894-63D2F281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ECC-A313-4CBB-B65C-00CEBAC8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6B0-B7AC-4CEF-AA1C-25A5FEEA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7D2-9E07-4B44-BF15-A5BC73FB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B2385-4A10-4DEC-893E-F096269D26E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65080-B52C-4AFE-BD4C-32CF24A87D0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36440"/>
            <a:ext cx="82296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ьразовательное учреждение «Северский лицей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 algn="ctr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з Сибири в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 algn="ctr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лмачева Мария 8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лисеева Полина 8 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2"/>
          <a:stretch/>
        </p:blipFill>
        <p:spPr>
          <a:xfrm>
            <a:off x="609480" y="539640"/>
            <a:ext cx="767088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2"/>
          <a:stretch/>
        </p:blipFill>
        <p:spPr>
          <a:xfrm>
            <a:off x="720720" y="547560"/>
            <a:ext cx="767088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539640" y="179280"/>
            <a:ext cx="79200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2"/>
          <a:stretch/>
        </p:blipFill>
        <p:spPr>
          <a:xfrm>
            <a:off x="1992240" y="314280"/>
            <a:ext cx="5143680" cy="63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2"/>
          <a:stretch/>
        </p:blipFill>
        <p:spPr>
          <a:xfrm>
            <a:off x="2160720" y="343080"/>
            <a:ext cx="5143320" cy="61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2"/>
          <a:stretch/>
        </p:blipFill>
        <p:spPr>
          <a:xfrm>
            <a:off x="2057400" y="360360"/>
            <a:ext cx="514368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2160720" y="179280"/>
            <a:ext cx="514332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900000" y="720720"/>
            <a:ext cx="767088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539640" y="366840"/>
            <a:ext cx="8099640" cy="59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969840" y="547560"/>
            <a:ext cx="767088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2"/>
          <a:stretch/>
        </p:blipFill>
        <p:spPr>
          <a:xfrm>
            <a:off x="539640" y="627120"/>
            <a:ext cx="6667560" cy="3333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3240000" y="3060720"/>
            <a:ext cx="558000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2"/>
          <a:stretch/>
        </p:blipFill>
        <p:spPr>
          <a:xfrm>
            <a:off x="720720" y="366840"/>
            <a:ext cx="7670880" cy="57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539640" y="503280"/>
            <a:ext cx="8099640" cy="57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2"/>
          <a:stretch/>
        </p:blipFill>
        <p:spPr>
          <a:xfrm>
            <a:off x="1992240" y="314280"/>
            <a:ext cx="5143680" cy="63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789120" y="539640"/>
            <a:ext cx="767052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609480" y="366840"/>
            <a:ext cx="8031240" cy="59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430200" y="539640"/>
            <a:ext cx="821052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2"/>
          <a:stretch/>
        </p:blipFill>
        <p:spPr>
          <a:xfrm>
            <a:off x="728640" y="539640"/>
            <a:ext cx="7912080" cy="608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ская раб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графии и впечатления с поездки в г.Санкт-Петербур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ресурс «Википед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3E49D-1A68-44BF-8094-A56413EB239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728640" y="357120"/>
            <a:ext cx="767088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789120" y="539640"/>
            <a:ext cx="767052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2"/>
          <a:stretch/>
        </p:blipFill>
        <p:spPr>
          <a:xfrm>
            <a:off x="1992240" y="360360"/>
            <a:ext cx="5143680" cy="630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2"/>
          <a:stretch/>
        </p:blipFill>
        <p:spPr>
          <a:xfrm>
            <a:off x="720720" y="360360"/>
            <a:ext cx="7893000" cy="611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539640" y="654120"/>
            <a:ext cx="792000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2160720" y="539640"/>
            <a:ext cx="5143320" cy="61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2"/>
          <a:stretch/>
        </p:blipFill>
        <p:spPr>
          <a:xfrm>
            <a:off x="625320" y="598320"/>
            <a:ext cx="8013960" cy="5700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3:23:58Z</dcterms:created>
  <dc:creator>Начальная школа</dc:creator>
  <dc:description/>
  <dc:language>en-US</dc:language>
  <cp:lastModifiedBy>Вера Васильевна</cp:lastModifiedBy>
  <dcterms:modified xsi:type="dcterms:W3CDTF">2015-11-09T10:20:5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